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69E0-3EDF-498F-BA67-A9F47BB8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418A-C2AA-4C4F-869C-4E8FE685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834C-D0E7-436A-8C60-74B24A4B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031E-3116-4248-81F8-08ABB5D7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DE34-A9DE-496F-AE77-33767F7E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8697-2016-4ECF-B58D-29971B58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9702-3101-4858-84A3-E13BBE01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C1EC-A34D-4BF7-B8D6-13EF6433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6A9C-850D-4EC9-8728-6010148B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3FB9-6016-4895-A66E-42DFA814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E72E-BBB4-4D1C-8D99-3D08939C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10E6-4524-45E4-B560-4E23EB8C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7AB9-6B74-41A5-8443-1B21BCB2C31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임베디드 시스템 개발 프로세스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임베디드 시스템 연구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연구실 신입생 및 학부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학년 학생 대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교육 과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목차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WinCE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inux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교육 준비 재료 및 비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구실 신입생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학부생 과정 확정 후 결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학기 컴퓨터 구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론은 지금 교재 그대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ARM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중심으로 설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과 병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론 수업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~3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 일찍 끝내고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ARM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 수업 진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 보드는 개인 구매 필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312840"/>
          <a:ext cx="8424720" cy="6140520"/>
        </p:xfrm>
        <a:graphic>
          <a:graphicData uri="http://schemas.openxmlformats.org/drawingml/2006/table">
            <a:tbl>
              <a:tblPr/>
              <a:tblGrid>
                <a:gridCol w="1584360"/>
                <a:gridCol w="4968720"/>
                <a:gridCol w="187164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RM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구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PXA270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특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초 회로도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도 읽는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, CLOCK, RESET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 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RA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작 원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RA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ASH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작 원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ASH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RIAL, JTAG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SERIAL/JTAG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C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셈블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셈블리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ulato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PC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연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XA27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시리얼 출력 – 자신의 보드에서 개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초기화 없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숙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개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개념 설명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 초기화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 과정을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~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 먼저 끝내고 부트 로더 과정만 집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정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메모리 컨트롤러 초기화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램으로 이동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공개 부트로더 소스 읽고 이해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몇가지 설정값만 직접 작성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리얼 출력까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최종 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마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포팅 실습 중심 수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WINCE, LINUX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원으로 나눠서 개별 수업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95280" y="981000"/>
          <a:ext cx="8424720" cy="5376960"/>
        </p:xfrm>
        <a:graphic>
          <a:graphicData uri="http://schemas.openxmlformats.org/drawingml/2006/table">
            <a:tbl>
              <a:tblPr/>
              <a:tblGrid>
                <a:gridCol w="1584360"/>
                <a:gridCol w="5184720"/>
                <a:gridCol w="1655640"/>
              </a:tblGrid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구조 및 특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latform Buil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포팅하는데 있어서 사용되는 기본 툴의 사용법을 숙지하고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vice Driver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간단한 버튼을 이용한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rive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제작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특성 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ootloade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부트로더 구성 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드에 사용된 코어에 맞게 레지스터를 구성하는 법 교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의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역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 인터럽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pplication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의 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Mana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vice Driver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심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바이스 드라이버의 구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하드웨어와 디바이스 드라이버와의 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드 디바이스 드라이버 작성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3565440" y="33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WinCE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95280" y="911160"/>
          <a:ext cx="8424720" cy="5757840"/>
        </p:xfrm>
        <a:graphic>
          <a:graphicData uri="http://schemas.openxmlformats.org/drawingml/2006/table">
            <a:tbl>
              <a:tblPr/>
              <a:tblGrid>
                <a:gridCol w="1584360"/>
                <a:gridCol w="5184720"/>
                <a:gridCol w="165564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구조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운영체제 개론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측면에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설치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베디드 개발 프로세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 도구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사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cc,gdb,make,vi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 개발 툴과 기초 사용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 환경 설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ross-compile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설치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JTAG/bootpd/tftpd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 개발 환경 설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팅 과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소스 구조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팅 과정과 부팅 순서에 따른 함수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스 열어보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컴파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C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커널 컴파일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PI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추가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포팅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포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리 패치된 커널 컴파일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 커널의 옵션 익히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anilla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포팅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 커널 소스 구조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스 수정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직접 포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루트 파일 시스템 로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총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565440" y="33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INUX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보드 개발 비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CB : 20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2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장 – 약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PU : 5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+ 2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BGA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조립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메모리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4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FLASH, SDRA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JTAG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케이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시리얼 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커넥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AN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커넥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22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5724360" y="2421000"/>
            <a:ext cx="2735280" cy="32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307280" y="3429000"/>
            <a:ext cx="1081080" cy="115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4149720"/>
            <a:ext cx="647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4149720"/>
            <a:ext cx="647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270828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6227640" y="342900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5291280" y="2565360"/>
            <a:ext cx="649080" cy="57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LA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5291280" y="3284640"/>
            <a:ext cx="649080" cy="576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270828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JTA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2T14:22:48Z</dcterms:created>
  <dc:creator>E</dc:creator>
  <dc:description/>
  <dc:language>en-US</dc:language>
  <cp:lastModifiedBy>E</cp:lastModifiedBy>
  <dcterms:modified xsi:type="dcterms:W3CDTF">2005-12-22T17:14:10Z</dcterms:modified>
  <cp:revision>9</cp:revision>
  <dc:subject/>
  <dc:title>슬라이드 1</dc:title>
</cp:coreProperties>
</file>