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34FF-8D03-43A9-B060-D0C7D167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284D-2F56-4E99-AD0E-FA1E0A52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DD68-B9D7-42FC-B730-3A79FA95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BDA2-BD8C-4407-B6E0-0D846118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4AB8-1889-4DD7-86F6-4BBF28F6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A6AC-A4A7-4AA8-84E0-456B7AFE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810F-399B-46AC-84D1-CCA082CC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5D0B-00F8-41C4-808D-4CC54636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A358-596F-4419-BC5A-807FC957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DFA1-F6E8-4604-90A1-6BEB3293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93F6-7DAB-49B3-A38F-35416DBB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9971-8C4C-4F23-A70B-54CA65AE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3655-855B-451B-92B3-89A41D6F1C9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임베디드 시스템 개발 프로세스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임베디드 시스템 연구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연구실 신입생 및 학부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학년 학생 대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교육 과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목차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학기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학기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WinCE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inux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교육 준비 재료 및 비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구실 신입생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학부생 과정 확정 후 결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학기 컴퓨터 구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론은 지금 교재 그대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ARM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중심으로 설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과 병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론 수업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~3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 일찍 끝내고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ARM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 수업 진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 보드는 개인 구매 필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5280" y="312840"/>
          <a:ext cx="8424720" cy="6140520"/>
        </p:xfrm>
        <a:graphic>
          <a:graphicData uri="http://schemas.openxmlformats.org/drawingml/2006/table">
            <a:tbl>
              <a:tblPr/>
              <a:tblGrid>
                <a:gridCol w="1584360"/>
                <a:gridCol w="4968720"/>
                <a:gridCol w="187164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 이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ARM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구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PXA270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특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초 회로도 이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도 읽는 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, CLOCK, RESET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 이해 프로세서와 연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RA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작 원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RA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 이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와 연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LASH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동작 원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LASH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 이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와 연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RIAL, JTAG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와 연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SERIAL/JTAG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실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C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어셈블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어셈블리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ulato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용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PC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연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XA270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시리얼 출력 – 자신의 보드에서 개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초기화 없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숙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트로더 개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트로더 개념 설명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프로세서 초기화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 과정을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~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 먼저 끝내고 부트 로더 과정만 집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정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메모리 컨트롤러 초기화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램으로 이동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공개 부트로더 소스 읽고 이해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몇가지 설정값만 직접 작성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리얼 출력까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최종 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학기 마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포팅 실습 중심 수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WINCE, LINUX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원으로 나눠서 개별 수업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95280" y="981000"/>
          <a:ext cx="8424720" cy="5376960"/>
        </p:xfrm>
        <a:graphic>
          <a:graphicData uri="http://schemas.openxmlformats.org/drawingml/2006/table">
            <a:tbl>
              <a:tblPr/>
              <a:tblGrid>
                <a:gridCol w="1584360"/>
                <a:gridCol w="5184720"/>
                <a:gridCol w="1655640"/>
              </a:tblGrid>
              <a:tr h="79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구조 및 특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latform Buil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를 포팅하는데 있어서 사용되는 기본 툴의 사용법을 숙지하고 이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evice Driver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간단한 버튼을 이용한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river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를 제작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특성 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ootloade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부트로더 구성 파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드에 사용된 코어에 맞게 레지스터를 구성하는 법 교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AL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inCE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의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AL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역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R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 인터럽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Application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AL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과의 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Mana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evice Driver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심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디바이스 드라이버의 구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하드웨어와 디바이스 드라이버와의 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카드 디바이스 드라이버 작성 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3565440" y="333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WinCE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395280" y="911160"/>
          <a:ext cx="8424720" cy="5757840"/>
        </p:xfrm>
        <a:graphic>
          <a:graphicData uri="http://schemas.openxmlformats.org/drawingml/2006/table">
            <a:tbl>
              <a:tblPr/>
              <a:tblGrid>
                <a:gridCol w="1584360"/>
                <a:gridCol w="5184720"/>
                <a:gridCol w="1655640"/>
              </a:tblGrid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=1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5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소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구조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운영체제 개론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측면에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소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설치 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소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베디드 개발 프로세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 도구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눅스 사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gcc,gdb,make,vi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등 개발 툴과 기초 사용 방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발 환경 설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ross-compiler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설치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JTAG/bootpd/tftpd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등 개발 환경 설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팅 과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소스 구조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팅 과정과 부팅 순서에 따른 함수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스 열어보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컴파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C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커널 컴파일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API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추가 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포팅 실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부트로더 포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리 패치된 커널 컴파일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 커널의 옵션 익히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Vanilla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커널 포팅 –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RM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 커널 소스 구조 설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스 수정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직접 포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루트 파일 시스템 로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총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3565440" y="333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INUX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보드 개발 비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PCB : 200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원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20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장 – 약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PU : 5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+ 2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BGA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조립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메모리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4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FLASH, SDRA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JTAG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케이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시리얼 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커넥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AN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칩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커넥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22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만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5724360" y="2421000"/>
            <a:ext cx="2735280" cy="32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307280" y="3429000"/>
            <a:ext cx="1081080" cy="1152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4149720"/>
            <a:ext cx="647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4149720"/>
            <a:ext cx="647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RO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227640" y="270828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6227640" y="342900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5291280" y="2565360"/>
            <a:ext cx="649080" cy="57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LA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5291280" y="3284640"/>
            <a:ext cx="649080" cy="576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7164360" y="2708280"/>
            <a:ext cx="57636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JTA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2T14:22:48Z</dcterms:created>
  <dc:creator>E</dc:creator>
  <dc:description/>
  <dc:language>en-US</dc:language>
  <cp:lastModifiedBy>E</cp:lastModifiedBy>
  <dcterms:modified xsi:type="dcterms:W3CDTF">2005-12-22T17:14:10Z</dcterms:modified>
  <cp:revision>9</cp:revision>
  <dc:subject/>
  <dc:title>슬라이드 1</dc:title>
</cp:coreProperties>
</file>