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B1B70-1E39-4695-A865-A96D9A825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CF103-56CB-4A2A-91E2-14FB93361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38309-F29A-4683-8F67-6471EF09D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57B07-B703-4427-829F-EB26745C0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A7A82-1523-4314-8537-3432BB644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8D2C9-0AAC-46E4-9850-3A2706DE4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755E4-9FC9-45B1-8B22-C3FEE3D7E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D3D18-C739-4C1B-993E-63832AC15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2A253-BC7B-403E-A2FC-A7B89655A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463FE-C193-4F57-91EB-31B724C46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EBC3D-922E-4508-A8EA-BD4C039BF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D14E2-CB5C-41C9-9BBE-C58205C61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돋움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돋움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돋움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돋움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돋움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돋움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돋움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돋움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돋움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돋움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돋움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B64FD-DFC8-41B9-A226-FC41D39B6DCC}" type="slidenum">
              <a:rPr b="0" lang="en-US" sz="1400" spc="-1" strike="noStrike">
                <a:solidFill>
                  <a:srgbClr val="ffffff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192.168.123.16/etwolf.tar.gz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403280" y="4292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돋움"/>
              </a:rPr>
              <a:t>게임 소개 및 진행 방법</a:t>
            </a:r>
            <a:r>
              <a:rPr b="0" lang="en-US" sz="3200" spc="-1" strike="noStrike">
                <a:solidFill>
                  <a:srgbClr val="ffffff"/>
                </a:solidFill>
                <a:latin typeface="돋움"/>
              </a:rPr>
              <a:t>/</a:t>
            </a:r>
            <a:r>
              <a:rPr b="0" lang="zh-CN" sz="3200" spc="-1" strike="noStrike">
                <a:solidFill>
                  <a:srgbClr val="ffffff"/>
                </a:solidFill>
                <a:latin typeface="돋움"/>
              </a:rPr>
              <a:t>목적 설명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42" name=""/>
          <p:cNvSpPr/>
          <p:nvPr/>
        </p:nvSpPr>
        <p:spPr>
          <a:xfrm>
            <a:off x="1220400" y="795240"/>
            <a:ext cx="254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5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회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KLDP CodeFest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돋움"/>
              </a:rPr>
              <a:t>Key Binding</a:t>
            </a:r>
            <a:endParaRPr b="0" lang="en-US" sz="44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1 : 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칼질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2 : 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권총 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( 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레벨업 시 쌍권총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3 : 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소총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혹은 자신의 메인 무기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4 : 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수류탄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첫 클릭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(onMouseDown) 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기준 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5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초 후 폭발</a:t>
            </a:r>
            <a:endParaRPr b="0" lang="en-US" sz="2800" spc="-1" strike="noStrike">
              <a:solidFill>
                <a:srgbClr val="ffffff"/>
              </a:solidFill>
              <a:latin typeface="돋움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버튼 누르기를 유지해서 쥐고 있을 수 있음</a:t>
            </a:r>
            <a:endParaRPr b="0" lang="en-US" sz="2800" spc="-1" strike="noStrike">
              <a:solidFill>
                <a:srgbClr val="ffffff"/>
              </a:solidFill>
              <a:latin typeface="돋움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돋움"/>
              </a:rPr>
              <a:t>Key Binding</a:t>
            </a:r>
            <a:endParaRPr b="0" lang="en-US" sz="44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5, 6, 7 : 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직업별 특수 기능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Soldier : 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기능 없음</a:t>
            </a:r>
            <a:endParaRPr b="0" lang="en-US" sz="2800" spc="-1" strike="noStrike">
              <a:solidFill>
                <a:srgbClr val="ffffff"/>
              </a:solidFill>
              <a:latin typeface="돋움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주사기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, Health Pack, 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아드레날린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레벨업 후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돋움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펜치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건물건설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지뢰매설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/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해체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), 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다이너마이트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지뢰</a:t>
            </a:r>
            <a:endParaRPr b="0" lang="en-US" sz="2800" spc="-1" strike="noStrike">
              <a:solidFill>
                <a:srgbClr val="ffffff"/>
              </a:solidFill>
              <a:latin typeface="돋움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공중 폭격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, Ammo pack</a:t>
            </a:r>
            <a:endParaRPr b="0" lang="en-US" sz="2800" spc="-1" strike="noStrike">
              <a:solidFill>
                <a:srgbClr val="ffffff"/>
              </a:solidFill>
              <a:latin typeface="돋움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연막탄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, Satchel(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원격 조종 폭탄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), </a:t>
            </a:r>
            <a:endParaRPr b="0" lang="en-US" sz="2800" spc="-1" strike="noStrike">
              <a:solidFill>
                <a:srgbClr val="ffffff"/>
              </a:solidFill>
              <a:latin typeface="돋움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돋움"/>
              </a:rPr>
              <a:t>Voice Chat</a:t>
            </a:r>
            <a:endParaRPr b="0" lang="en-US" sz="44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V : 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보이스 챗 메뉴 보이기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V21 : Need a medic</a:t>
            </a:r>
            <a:endParaRPr b="0" lang="en-US" sz="2800" spc="-1" strike="noStrike">
              <a:solidFill>
                <a:srgbClr val="ffffff"/>
              </a:solidFill>
              <a:latin typeface="돋움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V22 : Need an ammo</a:t>
            </a:r>
            <a:endParaRPr b="0" lang="en-US" sz="2800" spc="-1" strike="noStrike">
              <a:solidFill>
                <a:srgbClr val="ffffff"/>
              </a:solidFill>
              <a:latin typeface="돋움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V43 : Thanks</a:t>
            </a:r>
            <a:endParaRPr b="0" lang="en-US" sz="2800" spc="-1" strike="noStrike">
              <a:solidFill>
                <a:srgbClr val="ffffff"/>
              </a:solidFill>
              <a:latin typeface="돋움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V45 : Sorry!</a:t>
            </a:r>
            <a:endParaRPr b="0" lang="en-US" sz="2800" spc="-1" strike="noStrike">
              <a:solidFill>
                <a:srgbClr val="ffffff"/>
              </a:solidFill>
              <a:latin typeface="돋움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V586 : Good Game</a:t>
            </a:r>
            <a:endParaRPr b="0" lang="en-US" sz="2800" spc="-1" strike="noStrike">
              <a:solidFill>
                <a:srgbClr val="ffffff"/>
              </a:solidFill>
              <a:latin typeface="돋움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돋움"/>
              </a:rPr>
              <a:t>기타</a:t>
            </a:r>
            <a:endParaRPr b="0" lang="en-US" sz="44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돋움"/>
              </a:rPr>
              <a:t>리스폰 타임</a:t>
            </a:r>
            <a:endParaRPr b="0" lang="en-US" sz="2400" spc="-1" strike="noStrike">
              <a:solidFill>
                <a:srgbClr val="ffffff"/>
              </a:solidFill>
              <a:latin typeface="돋움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돋움"/>
              </a:rPr>
              <a:t>화면 오른 쪽에 두 개의 타이머가 표시</a:t>
            </a:r>
            <a:endParaRPr b="0" lang="en-US" sz="2000" spc="-1" strike="noStrike">
              <a:solidFill>
                <a:srgbClr val="ffffff"/>
              </a:solidFill>
              <a:latin typeface="돋움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돋움"/>
              </a:rPr>
              <a:t>파란 숫자는 리스폰 타임까지 남은 시간</a:t>
            </a:r>
            <a:endParaRPr b="0" lang="en-US" sz="2000" spc="-1" strike="noStrike">
              <a:solidFill>
                <a:srgbClr val="ffffff"/>
              </a:solidFill>
              <a:latin typeface="돋움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돋움"/>
              </a:rPr>
              <a:t>사망</a:t>
            </a:r>
            <a:endParaRPr b="0" lang="en-US" sz="2400" spc="-1" strike="noStrike">
              <a:solidFill>
                <a:srgbClr val="ffffff"/>
              </a:solidFill>
              <a:latin typeface="돋움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돋움"/>
              </a:rPr>
              <a:t>HP </a:t>
            </a:r>
            <a:r>
              <a:rPr b="0" lang="ko-KR" sz="2000" spc="-1" strike="noStrike">
                <a:solidFill>
                  <a:srgbClr val="ffffff"/>
                </a:solidFill>
                <a:latin typeface="돋움"/>
              </a:rPr>
              <a:t>를 모두 소모할 경우 빈사상태 돌입</a:t>
            </a:r>
            <a:endParaRPr b="0" lang="en-US" sz="2000" spc="-1" strike="noStrike">
              <a:solidFill>
                <a:srgbClr val="ffffff"/>
              </a:solidFill>
              <a:latin typeface="돋움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돋움"/>
              </a:rPr>
              <a:t>이 상태에서 메딕을 기다리거나</a:t>
            </a:r>
            <a:r>
              <a:rPr b="0" lang="ko-KR" sz="2000" spc="-1" strike="noStrike">
                <a:solidFill>
                  <a:srgbClr val="ffffff"/>
                </a:solidFill>
                <a:latin typeface="돋움"/>
              </a:rPr>
              <a:t>, Space </a:t>
            </a:r>
            <a:r>
              <a:rPr b="0" lang="ko-KR" sz="2000" spc="-1" strike="noStrike">
                <a:solidFill>
                  <a:srgbClr val="ffffff"/>
                </a:solidFill>
                <a:latin typeface="돋움"/>
              </a:rPr>
              <a:t>를 눌러 리스폰 </a:t>
            </a:r>
            <a:r>
              <a:rPr b="0" lang="ko-KR" sz="2000" spc="-1" strike="noStrike">
                <a:solidFill>
                  <a:srgbClr val="ffffff"/>
                </a:solidFill>
                <a:latin typeface="돋움"/>
              </a:rPr>
              <a:t>Queue </a:t>
            </a:r>
            <a:r>
              <a:rPr b="0" lang="ko-KR" sz="2000" spc="-1" strike="noStrike">
                <a:solidFill>
                  <a:srgbClr val="ffffff"/>
                </a:solidFill>
                <a:latin typeface="돋움"/>
              </a:rPr>
              <a:t>에 들어갈 수 있다</a:t>
            </a:r>
            <a:r>
              <a:rPr b="0" lang="ko-KR" sz="2000" spc="-1" strike="noStrike">
                <a:solidFill>
                  <a:srgbClr val="ffffff"/>
                </a:solidFill>
                <a:latin typeface="돋움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돋움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돋움"/>
              </a:rPr>
              <a:t>스프린트</a:t>
            </a:r>
            <a:endParaRPr b="0" lang="en-US" sz="2400" spc="-1" strike="noStrike">
              <a:solidFill>
                <a:srgbClr val="ffffff"/>
              </a:solidFill>
              <a:latin typeface="돋움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돋움"/>
              </a:rPr>
              <a:t>Shift </a:t>
            </a:r>
            <a:r>
              <a:rPr b="0" lang="ko-KR" sz="2000" spc="-1" strike="noStrike">
                <a:solidFill>
                  <a:srgbClr val="ffffff"/>
                </a:solidFill>
                <a:latin typeface="돋움"/>
              </a:rPr>
              <a:t>키를 눌러 더 빨리 달릴 수 있다</a:t>
            </a:r>
            <a:r>
              <a:rPr b="0" lang="ko-KR" sz="2000" spc="-1" strike="noStrike">
                <a:solidFill>
                  <a:srgbClr val="ffffff"/>
                </a:solidFill>
                <a:latin typeface="돋움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돋움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돋움"/>
              </a:rPr>
              <a:t>게이지에 의한 제한이 가해짐</a:t>
            </a:r>
            <a:endParaRPr b="0" lang="en-US" sz="2000" spc="-1" strike="noStrike">
              <a:solidFill>
                <a:srgbClr val="ffffff"/>
              </a:solidFill>
              <a:latin typeface="돋움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돋움"/>
              </a:rPr>
              <a:t>에너지</a:t>
            </a:r>
            <a:endParaRPr b="0" lang="en-US" sz="2400" spc="-1" strike="noStrike">
              <a:solidFill>
                <a:srgbClr val="ffffff"/>
              </a:solidFill>
              <a:latin typeface="돋움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돋움"/>
              </a:rPr>
              <a:t>엔지니어가 건설을 하거나</a:t>
            </a:r>
            <a:r>
              <a:rPr b="0" lang="ko-KR" sz="2000" spc="-1" strike="noStrike">
                <a:solidFill>
                  <a:srgbClr val="ffffff"/>
                </a:solidFill>
                <a:latin typeface="돋움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돋움"/>
              </a:rPr>
              <a:t>메딕이 </a:t>
            </a:r>
            <a:r>
              <a:rPr b="0" lang="ko-KR" sz="2000" spc="-1" strike="noStrike">
                <a:solidFill>
                  <a:srgbClr val="ffffff"/>
                </a:solidFill>
                <a:latin typeface="돋움"/>
              </a:rPr>
              <a:t>Health </a:t>
            </a:r>
            <a:r>
              <a:rPr b="0" lang="ko-KR" sz="2000" spc="-1" strike="noStrike">
                <a:solidFill>
                  <a:srgbClr val="ffffff"/>
                </a:solidFill>
                <a:latin typeface="돋움"/>
              </a:rPr>
              <a:t>팩을 뿌리는 등의 활동은 게이지를 소모한다</a:t>
            </a:r>
            <a:r>
              <a:rPr b="0" lang="ko-KR" sz="2000" spc="-1" strike="noStrike">
                <a:solidFill>
                  <a:srgbClr val="ffffff"/>
                </a:solidFill>
                <a:latin typeface="돋움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돋움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돋움"/>
              </a:rPr>
              <a:t>Command Post </a:t>
            </a:r>
            <a:r>
              <a:rPr b="0" lang="ko-KR" sz="2000" spc="-1" strike="noStrike">
                <a:solidFill>
                  <a:srgbClr val="ffffff"/>
                </a:solidFill>
                <a:latin typeface="돋움"/>
              </a:rPr>
              <a:t>를 지을 경우 에너지 회복이 빨라진다</a:t>
            </a:r>
            <a:r>
              <a:rPr b="0" lang="ko-KR" sz="2000" spc="-1" strike="noStrike">
                <a:solidFill>
                  <a:srgbClr val="ffffff"/>
                </a:solidFill>
                <a:latin typeface="돋움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돋움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돋움"/>
              </a:rPr>
              <a:t>게임 진행</a:t>
            </a:r>
            <a:endParaRPr b="0" lang="en-US" sz="44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A, B : CodeFest ETHost</a:t>
            </a:r>
            <a:endParaRPr b="0" lang="en-US" sz="2800" spc="-1" strike="noStrike">
              <a:solidFill>
                <a:srgbClr val="ffffff"/>
              </a:solidFill>
              <a:latin typeface="돋움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C, D : CodeFest ETHost 2</a:t>
            </a:r>
            <a:endParaRPr b="0" lang="en-US" sz="2800" spc="-1" strike="noStrike">
              <a:solidFill>
                <a:srgbClr val="ffffff"/>
              </a:solidFill>
              <a:latin typeface="돋움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돋움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승리 팀 진출</a:t>
            </a:r>
            <a:endParaRPr b="0" lang="en-US" sz="2800" spc="-1" strike="noStrike">
              <a:solidFill>
                <a:srgbClr val="ffffff"/>
              </a:solidFill>
              <a:latin typeface="돋움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5~10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분간의 예비 게임 후 성적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(XP) 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에 따라 팀을 섞습니다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돋움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돋움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피날레 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참가자 제한을 두지 않은 무제한 시합</a:t>
            </a:r>
            <a:endParaRPr b="0" lang="en-US" sz="2800" spc="-1" strike="noStrike">
              <a:solidFill>
                <a:srgbClr val="ffffff"/>
              </a:solidFill>
              <a:latin typeface="돋움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돋움"/>
              </a:rPr>
              <a:t>게임 소개</a:t>
            </a:r>
            <a:endParaRPr b="0" lang="en-US" sz="44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Return to Castle Wolfenstein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자유 소프트웨어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(Free Software)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RTCW 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와는 독립적인 프로그램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Axis VS Allies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하나의 시나리오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두 개의 팀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	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서로 다른 목적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(Mission Objective)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돋움"/>
              </a:rPr>
              <a:t>Supply Depot (Fixed)</a:t>
            </a:r>
            <a:endParaRPr b="0" lang="en-US" sz="44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Allies – 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공격측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Axis – 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수비측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목표 요약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공격측 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차량 진행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금 탈취</a:t>
            </a:r>
            <a:endParaRPr b="0" lang="en-US" sz="2800" spc="-1" strike="noStrike">
              <a:solidFill>
                <a:srgbClr val="ffffff"/>
              </a:solidFill>
              <a:latin typeface="돋움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수비측 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차량 진행 방해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주요 거점 폭파 방지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금 탈취 저지</a:t>
            </a:r>
            <a:endParaRPr b="0" lang="en-US" sz="2800" spc="-1" strike="noStrike">
              <a:solidFill>
                <a:srgbClr val="ffffff"/>
              </a:solidFill>
              <a:latin typeface="돋움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돋움"/>
              </a:rPr>
              <a:t>임무</a:t>
            </a:r>
            <a:endParaRPr b="0" lang="en-US" sz="44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돋움"/>
              </a:rPr>
              <a:t>Allies</a:t>
            </a:r>
            <a:endParaRPr b="0" lang="en-US" sz="2000" spc="-1" strike="noStrike">
              <a:solidFill>
                <a:srgbClr val="ffffff"/>
              </a:solidFill>
              <a:latin typeface="돋움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돋움"/>
              </a:rPr>
              <a:t>Breach the Forward Bunker Gate with dynamite</a:t>
            </a:r>
            <a:endParaRPr b="0" lang="en-US" sz="1800" spc="-1" strike="noStrike">
              <a:solidFill>
                <a:srgbClr val="ffffff"/>
              </a:solidFill>
              <a:latin typeface="돋움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돋움"/>
              </a:rPr>
              <a:t>Breach the Depot Gate with dynamite</a:t>
            </a:r>
            <a:endParaRPr b="0" lang="en-US" sz="1800" spc="-1" strike="noStrike">
              <a:solidFill>
                <a:srgbClr val="ffffff"/>
              </a:solidFill>
              <a:latin typeface="돋움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돋움"/>
              </a:rPr>
              <a:t>Escort the Allied truck to the depot crane</a:t>
            </a:r>
            <a:endParaRPr b="0" lang="en-US" sz="1800" spc="-1" strike="noStrike">
              <a:solidFill>
                <a:srgbClr val="ffffff"/>
              </a:solidFill>
              <a:latin typeface="돋움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돋움"/>
              </a:rPr>
              <a:t>Construct the crane controls on the upper level of the Depot warehouse, and operate the crane to load the gold onto the Truck</a:t>
            </a:r>
            <a:endParaRPr b="0" lang="en-US" sz="1800" spc="-1" strike="noStrike">
              <a:solidFill>
                <a:srgbClr val="ffffff"/>
              </a:solidFill>
              <a:latin typeface="돋움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돋움"/>
              </a:rPr>
              <a:t>Escort the Allied truck out of the Depot and escape with the gold</a:t>
            </a:r>
            <a:endParaRPr b="0" lang="en-US" sz="18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돋움"/>
              </a:rPr>
              <a:t>Axis</a:t>
            </a:r>
            <a:endParaRPr b="0" lang="en-US" sz="2000" spc="-1" strike="noStrike">
              <a:solidFill>
                <a:srgbClr val="ffffff"/>
              </a:solidFill>
              <a:latin typeface="돋움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돋움"/>
              </a:rPr>
              <a:t>Stop the Allies from breaching the Forward Bunker Gate with dynamite</a:t>
            </a:r>
            <a:endParaRPr b="0" lang="en-US" sz="1800" spc="-1" strike="noStrike">
              <a:solidFill>
                <a:srgbClr val="ffffff"/>
              </a:solidFill>
              <a:latin typeface="돋움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돋움"/>
              </a:rPr>
              <a:t>Stop the Allies from breaching the Depot Gate with dynamite</a:t>
            </a:r>
            <a:endParaRPr b="0" lang="en-US" sz="1800" spc="-1" strike="noStrike">
              <a:solidFill>
                <a:srgbClr val="ffffff"/>
              </a:solidFill>
              <a:latin typeface="돋움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돋움"/>
              </a:rPr>
              <a:t>Ensure that the Allied truck does not reach the Depot crane</a:t>
            </a:r>
            <a:endParaRPr b="0" lang="en-US" sz="1800" spc="-1" strike="noStrike">
              <a:solidFill>
                <a:srgbClr val="ffffff"/>
              </a:solidFill>
              <a:latin typeface="돋움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돋움"/>
              </a:rPr>
              <a:t>Stop the Allies from constructing the crane controls on the upper level of the Depot warehouse, and don’t let them operate the crane</a:t>
            </a:r>
            <a:endParaRPr b="0" lang="en-US" sz="1800" spc="-1" strike="noStrike">
              <a:solidFill>
                <a:srgbClr val="ffffff"/>
              </a:solidFill>
              <a:latin typeface="돋움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돋움"/>
              </a:rPr>
              <a:t>Do not allow the Allied truck to escape with the gold</a:t>
            </a:r>
            <a:endParaRPr b="0" lang="en-US" sz="1800" spc="-1" strike="noStrike">
              <a:solidFill>
                <a:srgbClr val="ffffff"/>
              </a:solidFill>
              <a:latin typeface="돋움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0" y="-185760"/>
            <a:ext cx="9144000" cy="704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돋움"/>
              </a:rPr>
              <a:t>환경설정</a:t>
            </a:r>
            <a:endParaRPr b="0" lang="en-US" sz="44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wget </a:t>
            </a:r>
            <a:r>
              <a:rPr b="0" lang="ko-KR" sz="3200" spc="-1" strike="noStrike" u="sng">
                <a:solidFill>
                  <a:srgbClr val="009999"/>
                </a:solidFill>
                <a:uFillTx/>
                <a:latin typeface="돋움"/>
                <a:hlinkClick r:id="rId2"/>
              </a:rPr>
              <a:t>http://192.168.123.16/etwolf.tar.gz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유저홈디렉토리에서 압축을 풀어주십시오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tar xzpf etwolf.tar.gz</a:t>
            </a:r>
            <a:endParaRPr b="0" lang="en-US" sz="2800" spc="-1" strike="noStrike">
              <a:solidFill>
                <a:srgbClr val="ffffff"/>
              </a:solidFill>
              <a:latin typeface="돋움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` 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키를 이용해 콘솔을 사용하십시오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	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	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/name sTaNia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돋움"/>
              </a:rPr>
              <a:t>서버 접속</a:t>
            </a:r>
            <a:endParaRPr b="0" lang="en-US" sz="44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Host 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로 지정된 분들은 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Host Game 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으로 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Start Server 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를 해주십시오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Client 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분들은 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Play Online 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으로 들어가셔서 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Server Type : Local 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을 선택하시면 호스트들이 보일겁니다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돋움"/>
              </a:rPr>
              <a:t>게임 다운로드</a:t>
            </a:r>
            <a:endParaRPr b="0" lang="en-US" sz="44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http://192.168.123.16/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http://ns.hellocity.net/~iolo/files/temp/et-linux-2.60.x86.run.zip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윈도우용 바이너리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http://ns.hellocity.net/~iolo/files/temp/WolfET.exe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http://ns.hellocity.net/~iolo/files/temp/ET_Patch_2_60.exe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돋움"/>
              </a:rPr>
              <a:t>Key Binding</a:t>
            </a:r>
            <a:endParaRPr b="0" lang="en-US" sz="44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돋움"/>
              </a:rPr>
              <a:t>W A S D : </a:t>
            </a:r>
            <a:r>
              <a:rPr b="0" lang="zh-CN" sz="3200" spc="-1" strike="noStrike">
                <a:solidFill>
                  <a:srgbClr val="ffffff"/>
                </a:solidFill>
                <a:latin typeface="돋움"/>
              </a:rPr>
              <a:t>이동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돋움"/>
              </a:rPr>
              <a:t>F : </a:t>
            </a:r>
            <a:r>
              <a:rPr b="0" lang="zh-CN" sz="3200" spc="-1" strike="noStrike">
                <a:solidFill>
                  <a:srgbClr val="ffffff"/>
                </a:solidFill>
                <a:latin typeface="돋움"/>
              </a:rPr>
              <a:t>줍기</a:t>
            </a:r>
            <a:r>
              <a:rPr b="0" lang="en-US" sz="3200" spc="-1" strike="noStrike">
                <a:solidFill>
                  <a:srgbClr val="ffffff"/>
                </a:solidFill>
                <a:latin typeface="돋움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돋움"/>
              </a:rPr>
              <a:t>장치 조작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돋움"/>
              </a:rPr>
              <a:t>X : </a:t>
            </a:r>
            <a:r>
              <a:rPr b="0" lang="zh-CN" sz="3200" spc="-1" strike="noStrike">
                <a:solidFill>
                  <a:srgbClr val="ffffff"/>
                </a:solidFill>
                <a:latin typeface="돋움"/>
              </a:rPr>
              <a:t>포복자세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돋움"/>
              </a:rPr>
              <a:t>C : </a:t>
            </a:r>
            <a:r>
              <a:rPr b="0" lang="zh-CN" sz="3200" spc="-1" strike="noStrike">
                <a:solidFill>
                  <a:srgbClr val="ffffff"/>
                </a:solidFill>
                <a:latin typeface="돋움"/>
              </a:rPr>
              <a:t>앉기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돋움"/>
              </a:rPr>
              <a:t>Q, E : </a:t>
            </a:r>
            <a:r>
              <a:rPr b="0" lang="zh-CN" sz="3200" spc="-1" strike="noStrike">
                <a:solidFill>
                  <a:srgbClr val="ffffff"/>
                </a:solidFill>
                <a:latin typeface="돋움"/>
              </a:rPr>
              <a:t>살짝 옆을 보기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돋움"/>
              </a:rPr>
              <a:t>R : Reload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돋움"/>
              </a:rPr>
              <a:t>B : </a:t>
            </a:r>
            <a:r>
              <a:rPr b="0" lang="zh-CN" sz="3200" spc="-1" strike="noStrike">
                <a:solidFill>
                  <a:srgbClr val="ffffff"/>
                </a:solidFill>
                <a:latin typeface="돋움"/>
              </a:rPr>
              <a:t>쌍안경 보기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돋움"/>
              </a:rPr>
              <a:t>G : </a:t>
            </a:r>
            <a:r>
              <a:rPr b="0" lang="zh-CN" sz="3200" spc="-1" strike="noStrike">
                <a:solidFill>
                  <a:srgbClr val="ffffff"/>
                </a:solidFill>
                <a:latin typeface="돋움"/>
              </a:rPr>
              <a:t>전체 맵 보기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2T09:36:12Z</dcterms:created>
  <dc:creator>stania</dc:creator>
  <dc:description/>
  <dc:language>en-US</dc:language>
  <cp:lastModifiedBy>stania</cp:lastModifiedBy>
  <dcterms:modified xsi:type="dcterms:W3CDTF">2005-07-24T17:26:14Z</dcterms:modified>
  <cp:revision>9</cp:revision>
  <dc:subject/>
  <dc:title>Slide 1</dc:title>
</cp:coreProperties>
</file>