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0FD1-84DC-41DD-BB2B-25769A9BE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9DF3-2DB2-475C-8190-0DF5FBCB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83FD-8934-4752-A58E-BE0F32540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08C7-8D50-462A-A291-4357A3900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D28B-EA52-41E8-B57C-F07463D5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C51B-D057-4919-B612-E7F2CC1A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E6A5-6271-4E1E-A941-17483B1A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ECCE-E8E2-4210-AD8D-93F19693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CD96-B56D-4206-A489-EFEFD08E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EDB0-991A-4268-B888-7CCCE9E1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793D-CD36-4EF5-8704-C9FEEC81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26DB-4FB7-40B6-BBE2-27DE6F15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돋움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돋움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돋움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E222-09A0-45CA-BDCD-3BDC2430A225}" type="slidenum">
              <a:rPr b="0" lang="en-US" sz="14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192.168.123.16/etwolf.tar.gz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게임 소개 및 진행 방법</a:t>
            </a: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목적 설명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2" name=""/>
          <p:cNvSpPr/>
          <p:nvPr/>
        </p:nvSpPr>
        <p:spPr>
          <a:xfrm>
            <a:off x="1220400" y="795240"/>
            <a:ext cx="25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5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회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KLDP CodeF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Key Binding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1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칼질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2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권총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(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레벨업 시 쌍권총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3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소총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혹은 자신의 메인 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4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수류탄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첫 클릭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(onMouseDown)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기준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초 후 폭발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버튼 누르기를 유지해서 쥐고 있을 수 있음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Key Binding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5, 6, 7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직업별 특수 기능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Soldier :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기능 없음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주사기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Health Pack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아드레날린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레벨업 후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펜치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건물건설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지뢰매설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/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해체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)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다이너마이트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지뢰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공중 폭격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Ammo pack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연막탄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Satchel(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원격 조종 폭탄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), 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Voice Chat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V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보이스 챗 메뉴 보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21 : Need a medic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22 : Need an ammo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43 : Thanks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45 : Sorry!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586 : Good Game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기타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돋움"/>
              </a:rPr>
              <a:t>리스폰 타임</a:t>
            </a:r>
            <a:endParaRPr b="0" lang="en-US" sz="24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화면 오른 쪽에 두 개의 타이머가 표시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파란 숫자는 리스폰 타임까지 남은 시간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돋움"/>
              </a:rPr>
              <a:t>사망</a:t>
            </a:r>
            <a:endParaRPr b="0" lang="en-US" sz="24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HP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를 모두 소모할 경우 빈사상태 돌입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이 상태에서 메딕을 기다리거나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, Space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를 눌러 리스폰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Queue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에 들어갈 수 있다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돋움"/>
              </a:rPr>
              <a:t>스프린트</a:t>
            </a:r>
            <a:endParaRPr b="0" lang="en-US" sz="24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Shift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키를 눌러 더 빨리 달릴 수 있다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게이지에 의한 제한이 가해짐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돋움"/>
              </a:rPr>
              <a:t>에너지</a:t>
            </a:r>
            <a:endParaRPr b="0" lang="en-US" sz="24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엔지니어가 건설을 하거나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메딕이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Health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팩을 뿌리는 등의 활동은 게이지를 소모한다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Command Post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를 지을 경우 에너지 회복이 빨라진다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게임 진행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A, B : CodeFest ETHost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C, D : CodeFest ETHost 2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승리 팀 진출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5~10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분간의 예비 게임 후 성적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(XP)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에 따라 팀을 섞습니다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피날레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참가자 제한을 두지 않은 무제한 시합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게임 소개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Return to Castle Wolfenstein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자유 소프트웨어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(Free Software)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RTCW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와는 독립적인 프로그램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Axis VS Allies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하나의 시나리오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두 개의 팀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	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서로 다른 목적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(Mission Objective)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Supply Depot (Fixed)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Allies –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공격측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Axis –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수비측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목표 요약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공격측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차량 진행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금 탈취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수비측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차량 진행 방해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주요 거점 폭파 방지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금 탈취 저지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임무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돋움"/>
              </a:rPr>
              <a:t>Allies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Breach the Forward Bunker Gate with dynamit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Breach the Depot Gate with dynamit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Escort the Allied truck to the depot cran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Construct the crane controls on the upper level of the Depot warehouse, and operate the crane to load the gold onto the Truck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Escort the Allied truck out of the Depot and escape with the gold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돋움"/>
              </a:rPr>
              <a:t>Axis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Stop the Allies from breaching the Forward Bunker Gate with dynamit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Stop the Allies from breaching the Depot Gate with dynamit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Ensure that the Allied truck does not reach the Depot cran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Stop the Allies from constructing the crane controls on the upper level of the Depot warehouse, and don’t let them operate the cran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Do not allow the Allied truck to escape with the gold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-185760"/>
            <a:ext cx="9144000" cy="70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환경설정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wget </a:t>
            </a:r>
            <a:r>
              <a:rPr b="0" lang="ko-KR" sz="3200" spc="-1" strike="noStrike" u="sng">
                <a:solidFill>
                  <a:srgbClr val="009999"/>
                </a:solidFill>
                <a:uFillTx/>
                <a:latin typeface="돋움"/>
                <a:hlinkClick r:id="rId2"/>
              </a:rPr>
              <a:t>http://192.168.123.16/etwolf.tar.gz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유저홈디렉토리에서 압축을 풀어주십시오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tar xzpf etwolf.tar.gz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`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키를 이용해 콘솔을 사용하십시오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	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	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/name sTaNia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서버 접속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ost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로 지정된 분들은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ost Game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으로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Start Server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를 해주십시오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Client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분들은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Play Online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으로 들어가셔서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Server Type : Local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을 선택하시면 호스트들이 보일겁니다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게임 다운로드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ttp://192.168.123.16/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ttp://ns.hellocity.net/~iolo/files/temp/et-linux-2.60.x86.run.zip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윈도우용 바이너리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ttp://ns.hellocity.net/~iolo/files/temp/WolfET.exe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ttp://ns.hellocity.net/~iolo/files/temp/ET_Patch_2_60.exe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Key Binding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W A S D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이동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F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줍기</a:t>
            </a: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장치 조작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X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포복자세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C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앉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Q, E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살짝 옆을 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R : Reload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B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쌍안경 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G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전체 맵 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2T09:36:12Z</dcterms:created>
  <dc:creator>stania</dc:creator>
  <dc:description/>
  <dc:language>en-US</dc:language>
  <cp:lastModifiedBy>stania</cp:lastModifiedBy>
  <dcterms:modified xsi:type="dcterms:W3CDTF">2005-07-24T17:26:14Z</dcterms:modified>
  <cp:revision>9</cp:revision>
  <dc:subject/>
  <dc:title>Slide 1</dc:title>
</cp:coreProperties>
</file>