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55F-7E1D-483A-8D1E-364383C7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ABE-A0E9-4B4E-80D3-E0D8BC07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0E1-02B6-4D2C-93AA-FD77A759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1D0-CD48-42AD-92B8-F56F048C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8DD7-C090-48F0-ADAB-67D12715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0A6A-67E5-496F-9F90-56C6E4D7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994-ED22-43B6-9055-B3BAD015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D89-BFC0-4E14-963A-C947C89F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BF1-206A-4A64-BE70-0ABF7695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36F-009A-414E-B301-B12155D7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04C-E80E-45E2-A9C7-5ACE41AF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4DC-419B-4221-8FF2-1D8C25E6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FD0A-9843-4706-95A7-239B64DF7C5D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192.168.123.16/etwolf.tar.gz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게임 소개 및 진행 방법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목적 설명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2" name=""/>
          <p:cNvSpPr/>
          <p:nvPr/>
        </p:nvSpPr>
        <p:spPr>
          <a:xfrm>
            <a:off x="1220400" y="795240"/>
            <a:ext cx="25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5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회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KLDP CodeF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1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칼질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2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권총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레벨업 시 쌍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3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혹은 자신의 메인 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4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류탄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첫 클릭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onMouseDown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준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초 후 폭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버튼 누르기를 유지해서 쥐고 있을 수 있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5, 6, 7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직업별 특수 기능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Soldier 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능 없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사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Health Pack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아드레날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레벨업 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펜치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건물건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매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해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다이너마이트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중 폭격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Ammo pack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연막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Satchel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원격 조종 폭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Voice Ch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V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보이스 챗 메뉴 보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1 : Need a medic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2 : Need an ammo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3 : Thanks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5 : Sorry!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586 : Good Game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기타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리스폰 타임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화면 오른 쪽에 두 개의 타이머가 표시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파란 숫자는 리스폰 타임까지 남은 시간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사망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P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모두 소모할 경우 빈사상태 돌입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이 상태에서 메딕을 기다리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Spac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눌러 리스폰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Queu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에 들어갈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스프린트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Shif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키를 눌러 더 빨리 달릴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게이지에 의한 제한이 가해짐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에너지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엔지니어가 건설을 하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메딕이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ealth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팩을 뿌리는 등의 활동은 게이지를 소모한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Command Pos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지을 경우 에너지 회복이 빨라진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진행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A, B : CodeFest ETHost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C, D : CodeFest ETHost 2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승리 팀 진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~10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분간의 예비 게임 후 성적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XP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에 따라 팀을 섞습니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피날레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참가자 제한을 두지 않은 무제한 시합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소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eturn to Castle Wolfenstein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자유 소프트웨어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Free Softwar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TCW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와는 독립적인 프로그램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VS Allies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하나의 시나리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두 개의 팀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서로 다른 목적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Mission Objectiv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Supply Depot (Fixed)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llie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공격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비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목표 요약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격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수비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 방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요 거점 폭파 방지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 저지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임무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llie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to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Construct the crane controls on the upper level of the Depot warehouse, and operate the crane to load the gold onto the Truck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out of the Depot and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xi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nsure that the Allied truck does not reach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constructing the crane controls on the upper level of the Depot warehouse, and don’t let them operate the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Do not allow the Allied truck to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185760"/>
            <a:ext cx="914400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환경설정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wget </a:t>
            </a:r>
            <a:r>
              <a:rPr b="0" lang="ko-KR" sz="3200" spc="-1" strike="noStrike" u="sng">
                <a:solidFill>
                  <a:srgbClr val="009999"/>
                </a:solidFill>
                <a:uFillTx/>
                <a:latin typeface="돋움"/>
                <a:hlinkClick r:id="rId2"/>
              </a:rPr>
              <a:t>http://192.168.123.16/etwolf.tar.gz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유저홈디렉토리에서 압축을 풀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tar xzpf etwolf.tar.gz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`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키를 이용해 콘솔을 사용하십시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/name sTaNia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서버 접속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로 지정된 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Gam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tart Server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를 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Clien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Play Onlin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들어가셔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erver Type : Local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을 선택하시면 호스트들이 보일겁니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다운로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192.168.123.16/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-linux-2.60.x86.run.zip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윈도우용 바이너리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WolfET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_Patch_2_60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W A S D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이동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줍기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장치 조작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X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포복자세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앉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Q, E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살짝 옆을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R : Reload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B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쌍안경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G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전체 맵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09:36:12Z</dcterms:created>
  <dc:creator>stania</dc:creator>
  <dc:description/>
  <dc:language>en-US</dc:language>
  <cp:lastModifiedBy>stania</cp:lastModifiedBy>
  <dcterms:modified xsi:type="dcterms:W3CDTF">2005-07-24T17:26:14Z</dcterms:modified>
  <cp:revision>9</cp:revision>
  <dc:subject/>
  <dc:title>Slide 1</dc:title>
</cp:coreProperties>
</file>